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E9C-435A-4366-A44B-CA49299F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58E-2F80-4E56-9EDE-8C055DBD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EA1-0716-449E-9CA3-E4BE5D6D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E91-AB01-4315-A239-8545BDEE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9E2C-2783-4D8C-8D5C-EB045B15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F38-5EB7-4273-9D66-3463B06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A59D-F984-4D28-B6AF-9C9B25AA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8351-A70D-428A-8FBE-5011579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196B-62B8-45A4-BA32-99078FF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38B9-2F18-48F2-A124-B70C389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F75C-978E-4984-AC1B-F4DFF454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187-2169-4F14-A446-8964EB2B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38C5-5A63-43CF-AAF7-F910600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B361-F9FB-4E47-88A6-333CDAA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6CA-F917-4ACE-883E-EC02C76D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E6B2-16C6-4370-9868-C6096D59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6422-D087-41D9-A0D6-7DB2E3B2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BE40-2C8A-488D-B100-62832615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17BC-D58F-45ED-84B8-B63CF8B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EFE9-D6BC-4D7F-8614-ADE127D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B761-5A56-47E4-A3F6-41DFA651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C9CE-BFC3-445A-927C-49C25CA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795-67C1-4D2B-A4C5-4BB3E65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AB8A-8EED-44BD-B3DB-C74325EE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A085-62AC-4600-88F1-49E047A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4880-E778-4ACD-986D-47B4ABA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F535-C704-4D3F-B4F9-24993C0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F011-C324-4165-8F77-C4D2F218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4707-38BE-4660-9B6F-0CAF9D60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A7A2-1239-4BB8-837B-7EEAB28D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C4C2-73F4-4A51-BF51-DBAD9290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A14F-5FBA-492D-8343-7B525846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0CF1-0EE1-428B-A84B-5420EBD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744-DF56-4894-A639-2335443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E379-4A31-417C-BA8C-C6331B9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CC9E-72BA-44E4-AF6C-FC05A7C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73F2-34F4-4819-BD11-D5A5EF1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9C07-A879-482E-A0D4-A60CFFF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B7FC-8CA8-4F66-974C-C26E29B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ABFA-B37A-4AF1-A98E-C96768E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DDDB-756D-4EC8-9EAB-0BB6BE95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8C28-F56B-4903-ADFC-4BC2A134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A9FA-96CB-4509-82FF-D612C20E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E50-9783-49B9-8B52-99A6AAD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775-C84D-48C9-B43E-B4CC388F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B93-DC68-4012-A970-FBEC0B7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DFD-92EA-43D2-853C-317D12E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B60-D617-40AB-A7A2-233D0799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E38-9ABC-40D3-9881-EAEF06F9A8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7B3-FA58-4AF8-AEA8-C3F2D2FB5D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86F-90BC-46BE-8308-8AE559454C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DD7A-B55D-4BE4-848C-5A10125028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Spreadsheet Design Rul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057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For every variable in the spread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ll range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(Raw Data, Statistical Summary, Calculated Variable, Score etc.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Integer, Text, Currency, Date, etc.) an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escription of the data or what it's 'purpose' is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Data Dictionary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42A8-0C18-49A4-A59F-1F86AFC344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Data Dictionar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5A2B-9C3D-40D8-A80B-2BB6300079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609480" y="57913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Exercise: Complete the previou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1981080"/>
          <a:ext cx="8001000" cy="3581640"/>
        </p:xfrm>
        <a:graphic>
          <a:graphicData uri="http://schemas.openxmlformats.org/drawingml/2006/table">
            <a:tbl>
              <a:tblPr/>
              <a:tblGrid>
                <a:gridCol w="1066680"/>
                <a:gridCol w="2171880"/>
                <a:gridCol w="1028520"/>
                <a:gridCol w="914400"/>
                <a:gridCol w="2819520"/>
              </a:tblGrid>
              <a:tr h="349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A1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of 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B1:B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sitting presid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C1:C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vote for 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A2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 Advantage as predicted by Mode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between predicted advantage in model 1 and the tru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squared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quare Error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Present your raw data in tabular form --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 representing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 representing c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2A7-6A77-482D-9F54-55DC36267A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38080" y="2819520"/>
          <a:ext cx="7467840" cy="3281400"/>
        </p:xfrm>
        <a:graphic>
          <a:graphicData uri="http://schemas.openxmlformats.org/drawingml/2006/table">
            <a:tbl>
              <a:tblPr/>
              <a:tblGrid>
                <a:gridCol w="717840"/>
                <a:gridCol w="1106280"/>
                <a:gridCol w="2065320"/>
                <a:gridCol w="1962360"/>
                <a:gridCol w="1616040"/>
              </a:tblGrid>
              <a:tr h="436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93464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Statistic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vari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80FE-08D2-44F6-A7DD-BD640BE2DF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3124080"/>
          <a:ext cx="7619760" cy="2897280"/>
        </p:xfrm>
        <a:graphic>
          <a:graphicData uri="http://schemas.openxmlformats.org/drawingml/2006/table">
            <a:tbl>
              <a:tblPr/>
              <a:tblGrid>
                <a:gridCol w="3886200"/>
                <a:gridCol w="1371600"/>
                <a:gridCol w="23619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5001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9277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6653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3415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895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52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99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7645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93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porting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BE1-E80A-41D7-8699-F744A6C385E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58831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other model (model2) for predicting vote for Incumbent  based on the formu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ForIncumbent = 2.4283(ChangeDisposableIncome) + 46.567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ppropriate changes i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redicted value, error, error squared, mean square err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descriptions of the new variables to the data dictionar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new formula and an explanation to i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057-4C86-471C-B061-9E94DFED09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.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your name, Date, and what changes you ma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he chart for Predicted value for vote in Model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: you can copy and paste the chart of model 1. Then, you would have to change the Data series, axis titles, and chart tit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statement that summaries your conclusion about each ch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FDEA-C7E8-4976-809A-2F99842588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45E-6B19-4D98-9258-75242CA6FE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Miscondu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1812-674E-45C5-8C01-41D9541C5D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 for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 visual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amiliar with basic design ru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BEB2-8CE0-4A62-96DE-A66DB4D9E6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skills you will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cell D2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range D2:D9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:$D$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board shortcu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: ctrl + 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: ctrl + 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: ctrl +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ll: ctrl+ 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: ctrl + 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: ctrl + 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B489-2CDA-453D-A964-A822C399A2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spreadsheet on paper fir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edit your calcula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omponents of a calculation vi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The reader should not go over the cell to know the number you multiplied b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AAF-38A5-4181-944F-7AB0E5AD61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ware of the "space" or "geography" of the spreadsheet. Arrange your information so that it is well spaced and easy to take in at a gla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use as many sheets as you c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give meaningful names to columns, rows, and she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rap text, shrink to fit, and merge cel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etter visualization fo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520-80AD-4D07-A056-75B287D7CA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F14C-0B86-4363-9975-FBFDC02FC9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95280"/>
          <a:ext cx="8763120" cy="457200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600"/>
                <a:gridCol w="876240"/>
                <a:gridCol w="876240"/>
                <a:gridCol w="876240"/>
                <a:gridCol w="876240"/>
                <a:gridCol w="876240"/>
                <a:gridCol w="876600"/>
                <a:gridCol w="876240"/>
              </a:tblGrid>
              <a:tr h="112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9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26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3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7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4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Error Square for Mod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7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What is this spreadsheet or workbook abou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Introduction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D610-63F9-4484-A634-2AEB589959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2357280"/>
          <a:ext cx="7543800" cy="4043520"/>
        </p:xfrm>
        <a:graphic>
          <a:graphicData uri="http://schemas.openxmlformats.org/drawingml/2006/table">
            <a:tbl>
              <a:tblPr/>
              <a:tblGrid>
                <a:gridCol w="1122480"/>
                <a:gridCol w="583920"/>
                <a:gridCol w="582840"/>
                <a:gridCol w="584280"/>
                <a:gridCol w="583920"/>
                <a:gridCol w="584280"/>
                <a:gridCol w="582840"/>
                <a:gridCol w="583920"/>
                <a:gridCol w="584280"/>
                <a:gridCol w="584280"/>
                <a:gridCol w="582480"/>
                <a:gridCol w="584280"/>
              </a:tblGrid>
              <a:tr h="274680">
                <a:tc gridSpan="5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: Political Control of the Econo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preadsheet is based on a Data Set by Edward R Tufte gathered from U.S. Presidential elections between 198 and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Tufte's data we look at Incumbent Advantage in terms of Change in Real Disposable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Political Control of the Econom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dward, R. Tuf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 University Press, 1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121 to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5.5 from above reference, pp. 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Dina Said in Jan 27, 2009 to be used in CPSC 203, week 2-lab 2 as a sample of a well-designed work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ModelAndAssumptions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E57D-4622-4EF3-884B-8F2A7F45C6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2743200"/>
          <a:ext cx="7086600" cy="3660840"/>
        </p:xfrm>
        <a:graphic>
          <a:graphicData uri="http://schemas.openxmlformats.org/drawingml/2006/table">
            <a:tbl>
              <a:tblPr/>
              <a:tblGrid>
                <a:gridCol w="708120"/>
                <a:gridCol w="709560"/>
                <a:gridCol w="708120"/>
                <a:gridCol w="709560"/>
                <a:gridCol w="708120"/>
                <a:gridCol w="707760"/>
                <a:gridCol w="709560"/>
                <a:gridCol w="708120"/>
                <a:gridCol w="709560"/>
                <a:gridCol w="708120"/>
              </a:tblGrid>
              <a:tr h="2858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&amp; 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10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developed a linear Model with" IncumbentAdvantage" as a Function of "ChangeDisposableIncome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Formula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 = 0.1456ChangeDisposableIncome - 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R-Squared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ssume a linear Model is Appropr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n the dispersion of the data, and low R-Squared -- this assumption may not be 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8T06:52:02Z</dcterms:modified>
  <cp:revision>159</cp:revision>
  <dc:subject/>
  <dc:title>CPSC 203</dc:title>
</cp:coreProperties>
</file>